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D81-C292-4BDF-8CEB-4B07FBFE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187-59B7-4A62-9A68-5127992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CF7-A744-4B2A-A800-04225F36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41D-51AA-407F-BE8E-E3833FC1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9127-9BA1-4544-BFA1-1E1EA884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A8A7-0CFF-4ABA-BC58-70BD0C40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FDE-AA05-4C5D-9095-8CD65DA6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4983-20B8-4144-BDE9-6B3EF5F0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F83A-8CD6-4B58-AE68-99632808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A14-2281-41DE-AED6-6B3C557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534A-A3F7-4178-9845-0136298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335-0AE2-4E1E-ABA7-3321C3EE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A0FC-4B44-402C-A7A7-E5B400D1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E25F-3163-41E2-B827-457AA46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BF95-C762-4191-96DF-4C149861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4BE8-BF21-4326-90A3-61D1F851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4221-604A-4390-BF94-9F50F45A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6D7-656D-4200-ACC2-CE1E3ACC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085-793A-4368-AF13-1F8A16B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7CC-6289-4BC0-B477-D442127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C14-3F8E-488D-90AE-B25473CD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0E5-6B58-4049-A1BE-3E4DBA4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BBA-0E54-4BFF-B43C-F8AE686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4CA-4DCC-40DC-9069-C823164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62F9-71AC-4394-800D-19773BA7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FDC-8C57-4D35-B324-7718D88C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Basketball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a free throw while spelling and saying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Basketball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pretend to dribble a basketball while saying each of the letters out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letters are done students throw an imaginary free throw as they say the wor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41:42Z</dcterms:modified>
  <cp:revision>3</cp:revision>
  <dc:subject/>
  <dc:title>Basket Ball Vocabulary Introducing vocabulary idea, from Mentoring Minds</dc:title>
</cp:coreProperties>
</file>